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D43-4EE9-46B3-8237-9201781C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D29-C38A-4583-B894-2A63E2AA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EE3-5B9C-425F-8D18-AD6AB3A9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005-6FAA-4013-BF6F-3FE6517D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5CB5-0BE8-418D-9706-FF961978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3A51-2EBC-4ECF-B4A3-AFFBEBBD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DFE-75F2-4158-9836-11098EFC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16F7-72D9-47D3-8718-7A95996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0BBD-CB1C-4C72-9FAC-5DBB4FA4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4FD4-A3AC-4727-97A9-7AE1C4C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11AA-22C1-4999-898E-AECE72D7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4BA-230A-4D65-84C3-A0CC9B93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B28B-7C06-4DBF-9171-803DC76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1B48-7B35-4571-9626-2553FC7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0799-58A4-4DE4-AE51-27C5F214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4D6F-B923-451C-B63B-4E0927C2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F08F-39C5-4D91-9BC2-F790B8C1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E6D-C668-487E-9E36-DEAD877A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67A-2D06-4778-A14B-2B0798EE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26D-4334-462B-8376-691485E1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69E-7055-4147-B081-74C1FEFB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D9D-F165-418C-9FF9-820C33D0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F1B-7628-482C-B0EC-EA94C8B7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ED4-484D-445E-A1AB-5E87EDC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1E17-8A4E-4B8A-BA24-3918089823E5}" type="slidenum">
              <a:rPr b="0" lang="zh-TW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F8B9-3493-4907-8882-C29ABCAAA20D}" type="slidenum">
              <a:rPr b="0" lang="zh-TW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D:/&#20114;&#21161;&#31038;/&#31038;&#21729;&#25945;&#32946;/&#31038;&#21729;&#22296;&#39636;&#20114;&#21161;&#37329;&#20839;&#23481;&#31777;&#20171;100.pdf" TargetMode="External"/><Relationship Id="rId2" Type="http://schemas.openxmlformats.org/officeDocument/2006/relationships/hyperlink" Target="file:///D:/&#20114;&#21161;&#31038;/&#31038;&#21729;&#25945;&#32946;/&#31038;&#21729;&#22296;&#39636;&#20114;&#21161;&#37329;&#20839;&#23481;&#31777;&#20171;100.pdf" TargetMode="External"/><Relationship Id="rId3" Type="http://schemas.openxmlformats.org/officeDocument/2006/relationships/hyperlink" Target="file:///D:/&#20114;&#21161;&#31038;/&#31038;&#21729;&#25945;&#32946;/&#31038;&#21729;&#22296;&#39636;&#20114;&#21161;&#37329;&#20839;&#23481;&#31777;&#20171;100.pdf" TargetMode="External"/><Relationship Id="rId4" Type="http://schemas.openxmlformats.org/officeDocument/2006/relationships/hyperlink" Target="file:///D:/&#20114;&#21161;&#31038;/&#31038;&#21729;&#25945;&#32946;/&#31038;&#21729;&#22296;&#39636;&#20114;&#21161;&#37329;&#20839;&#23481;&#31777;&#20171;100.pdf" TargetMode="External"/><Relationship Id="rId5" Type="http://schemas.openxmlformats.org/officeDocument/2006/relationships/hyperlink" Target="file:///D:/&#20114;&#21161;&#31038;/&#31038;&#21729;&#25945;&#32946;/&#38450;&#30284;&#20114;&#21161;&#22522;&#37329;DM-990601.doc" TargetMode="External"/><Relationship Id="rId6" Type="http://schemas.openxmlformats.org/officeDocument/2006/relationships/hyperlink" Target="file:///D:/&#20114;&#21161;&#31038;/&#31038;&#21729;&#25945;&#32946;/&#38450;&#30284;&#20114;&#21161;&#22522;&#37329;DM-990601.doc" TargetMode="External"/><Relationship Id="rId7" Type="http://schemas.openxmlformats.org/officeDocument/2006/relationships/hyperlink" Target="file:///D:/&#20114;&#21161;&#31038;/&#31038;&#21729;&#25945;&#32946;/&#24494;&#22411;&#20445;&#21934;DM.pdf" TargetMode="External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84582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3300"/>
                </a:solidFill>
                <a:latin typeface="Times New Roman"/>
                <a:ea typeface="標楷體"/>
              </a:rPr>
              <a:t>2012(</a:t>
            </a:r>
            <a:r>
              <a:rPr b="0" lang="zh-TW" sz="6000" spc="-1" strike="noStrike">
                <a:solidFill>
                  <a:srgbClr val="ff3300"/>
                </a:solidFill>
                <a:latin typeface="Times New Roman"/>
                <a:ea typeface="標楷體"/>
              </a:rPr>
              <a:t>民</a:t>
            </a:r>
            <a:r>
              <a:rPr b="0" lang="zh-TW" sz="6000" spc="-1" strike="noStrike">
                <a:solidFill>
                  <a:srgbClr val="ff3300"/>
                </a:solidFill>
                <a:latin typeface="Times New Roman"/>
                <a:ea typeface="標楷體"/>
              </a:rPr>
              <a:t>101)</a:t>
            </a:r>
            <a:r>
              <a:rPr b="0" lang="zh-TW" sz="6000" spc="-1" strike="noStrike">
                <a:solidFill>
                  <a:srgbClr val="ff3300"/>
                </a:solidFill>
                <a:latin typeface="Times New Roman"/>
                <a:ea typeface="標楷體"/>
              </a:rPr>
              <a:t>年社員大會暨長年社員教育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6002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理事長：胡永寶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鳳林儲蓄互助社的社務現況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社務概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入社辦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互助基金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俗稱互助型保險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各項放款辦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協商機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  <a:ea typeface="標楷體"/>
              </a:rPr>
              <a:t>銀行與互助社存款利率比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28760" y="1714680"/>
          <a:ext cx="8329320" cy="4593960"/>
        </p:xfrm>
        <a:graphic>
          <a:graphicData uri="http://schemas.openxmlformats.org/drawingml/2006/table">
            <a:tbl>
              <a:tblPr/>
              <a:tblGrid>
                <a:gridCol w="2776320"/>
                <a:gridCol w="2776680"/>
                <a:gridCol w="2776320"/>
              </a:tblGrid>
              <a:tr h="42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銀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solidFill>
                      <a:srgbClr val="f3b8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存款類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solidFill>
                      <a:srgbClr val="f3b8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利率</a:t>
                      </a: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年利率</a:t>
                      </a: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solidFill>
                      <a:srgbClr val="f3b8b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華郵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期存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標楷體"/>
                        </a:rPr>
                        <a:t>0.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華郵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定期存款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年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標楷體"/>
                        </a:rPr>
                        <a:t>1.0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台灣銀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期存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標楷體"/>
                        </a:rPr>
                        <a:t>0.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台灣銀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定期存款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年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標楷體"/>
                        </a:rPr>
                        <a:t>1.18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土地銀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期存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標楷體"/>
                        </a:rPr>
                        <a:t>0.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土地銀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定期存款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年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標楷體"/>
                        </a:rPr>
                        <a:t>1.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鳳林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股金存款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一年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標楷體"/>
                        </a:rPr>
                        <a:t>1.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ae6e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鳳林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利息攤還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ㄧ年</a:t>
                      </a: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標楷體"/>
                        </a:rPr>
                        <a:t>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fdf3f2"/>
                    </a:solidFill>
                  </a:tcPr>
                </a:tc>
              </a:tr>
            </a:tbl>
          </a:graphicData>
        </a:graphic>
      </p:graphicFrame>
      <p:sp>
        <p:nvSpPr>
          <p:cNvPr id="178" name="文字方塊 5"/>
          <p:cNvSpPr/>
          <p:nvPr/>
        </p:nvSpPr>
        <p:spPr>
          <a:xfrm>
            <a:off x="6489000" y="121428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資料時間：</a:t>
            </a:r>
            <a:r>
              <a:rPr b="1" lang="zh-TW" sz="1800" spc="-1" strike="noStrike">
                <a:solidFill>
                  <a:srgbClr val="ffffff"/>
                </a:solidFill>
                <a:latin typeface="Times New Roman"/>
                <a:ea typeface="標楷體"/>
              </a:rPr>
              <a:t>100/01/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社務概況</a:t>
            </a:r>
            <a:br>
              <a:rPr sz="4000"/>
            </a:br>
            <a:r>
              <a:rPr b="0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截至</a:t>
            </a:r>
            <a:r>
              <a:rPr b="0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0</a:t>
            </a:r>
            <a:r>
              <a:rPr b="0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年</a:t>
            </a:r>
            <a:r>
              <a:rPr b="0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10</a:t>
            </a:r>
            <a:r>
              <a:rPr b="0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月</a:t>
            </a:r>
            <a:r>
              <a:rPr b="0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31</a:t>
            </a:r>
            <a:r>
              <a:rPr b="0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日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社員人數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,741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股金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00, 550,147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儲蓄率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0.64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逾放比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9.95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逾貸額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5,540,552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呆帳沖銷總額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,651,601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貸放比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52.44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損益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325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br>
              <a:rPr sz="4400"/>
            </a:br>
            <a:r>
              <a:rPr b="1" lang="zh-TW" sz="4400" spc="-1" strike="noStrike">
                <a:solidFill>
                  <a:srgbClr val="ff3300"/>
                </a:solidFill>
                <a:latin typeface="Times New Roman"/>
                <a:ea typeface="標楷體"/>
              </a:rPr>
              <a:t>入社辦法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經社員介紹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未成年人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(2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足歲前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須經法定代理人同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法人社員，需提出團體統編及董事會、理監事會、小會、堂會會議紀錄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提出申請入社表格，經理事會審議通過後，成為儲蓄部社員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或稱準社員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存積儲蓄部股金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月，且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300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以上者，經通知到社參加升社員教育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通過參加升社員教育後，提交理事會審議，成為正式的社員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放款辦法介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信用放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擔保放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專案放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辦法</a:t>
            </a:r>
            <a:br>
              <a:rPr sz="4400"/>
            </a:b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r>
              <a:rPr b="1" lang="zh-TW" sz="4400" spc="-1" strike="noStrike">
                <a:solidFill>
                  <a:srgbClr val="ff3300"/>
                </a:solidFill>
                <a:latin typeface="Times New Roman"/>
                <a:ea typeface="標楷體"/>
              </a:rPr>
              <a:t>信用貸款 </a:t>
            </a: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人最高貸放程度是股金的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3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倍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惟放款委員會基於誠信原則，具有決定性的權利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人最高貸放額度為新台幣</a:t>
            </a: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標楷體"/>
              </a:rPr>
              <a:t>100</a:t>
            </a: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標楷體"/>
              </a:rPr>
              <a:t>萬元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整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依股金類別分成「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股金內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及「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股金外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放款，還款期數最長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4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期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7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股金內：年利率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8.4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月息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0.7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未成年社員需經法定代理人同意簽保證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股金外：年利率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9.6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月息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0.8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未成年社員依法不得超出股金貸放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辦法</a:t>
            </a:r>
            <a:br>
              <a:rPr sz="4400"/>
            </a:b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r>
              <a:rPr b="1" lang="zh-TW" sz="4400" spc="-1" strike="noStrike">
                <a:solidFill>
                  <a:srgbClr val="ff3300"/>
                </a:solidFill>
                <a:latin typeface="Times New Roman"/>
                <a:ea typeface="標楷體"/>
              </a:rPr>
              <a:t>擔保放款 </a:t>
            </a: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人最高貸放程度除依據社員的信用與還款能力外，也會依據擔保品的鑑價值作判斷，惟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理事會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基於誠信原則，具有決定性的權利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最高貸放額度為新台幣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300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萬元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整。還款期數最長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4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期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2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程序：社員提交專職申辦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提出擔保品正本證明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委員會初審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提交理事會審議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邀請借貸社員到會說明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通過或緩議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辦法</a:t>
            </a:r>
            <a:br>
              <a:rPr sz="4000"/>
            </a:b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法人社員放款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 </a:t>
            </a: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放款額度及利率同前說明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程序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法人社員提交專職申辦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需</a:t>
            </a:r>
            <a:r>
              <a:rPr b="0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提出董事會、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      </a:t>
            </a:r>
            <a:r>
              <a:rPr b="0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監事會、小會或堂會正式借款會議紀錄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借款人須經會議推出代表人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一定要是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  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員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所有會議成員須做連帶保證人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委員會初審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提交理事會審議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邀請法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人社員代表到會說明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通過或緩議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辦法</a:t>
            </a:r>
            <a:br>
              <a:rPr sz="4000"/>
            </a:b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附則事項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 </a:t>
            </a: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同一戶內社員貸款總額以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200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萬元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為限。經放款委員會初審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提交理事會審議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邀請社員到會說明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通過或緩議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如果同一戶內有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人以上正式社員，一戶內的貸款總額可酌增至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250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萬元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整，程序如上。但不論何種方式，理事會都保有最終的核定權利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第一次借貸的社員，除股金內放款外，股金外之放款最高是股金的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1.5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倍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案放款辦法</a:t>
            </a:r>
            <a:br>
              <a:rPr sz="4000"/>
            </a:b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 好社員優惠專案貸款</a:t>
            </a: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謂「好社員」，是指升正式社員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以上，按時存、還款，無逾期放款紀錄之社員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享有本專案優惠之社員，若有逾期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月以上情事，則取消優惠利率，以一般之信用放款利息計之。爾後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內不得申請本專案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利率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7.8%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，月息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0.65%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適用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股金外放款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儲蓄互助社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我爲人人，人人爲我，自助互助，天助之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互助合作，第一要緊，消滅貧窮，談富足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非為營利，非為救濟，乃是社員，相服務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按期存款，明智借款，還要按期，來攤還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勤勞節儉，善用金錢，一點一滴，積起來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急時要用，有錢可借，困難解決，笑哈哈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案放款辦法</a:t>
            </a:r>
            <a:br>
              <a:rPr sz="4000"/>
            </a:b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 資深社員優惠專案貸款</a:t>
            </a: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謂「資深社員」，是指「年滿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75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歲以上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(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含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且無逾期放款」之社員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申貸金額：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股金內貸款，最高為新台幣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3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萬元整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還款期限：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24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個月（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2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申請本項專案放款之資深社員，應誠實告知專職人員緊急就醫及急難之理由，若有發現欺瞞或不當使用之情事，取消優惠，並得回歸信用放款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/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股金內放款之一般利息計算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ff"/>
                </a:solidFill>
                <a:uFillTx/>
                <a:latin typeface="Times New Roman"/>
                <a:ea typeface="標楷體"/>
              </a:rPr>
              <a:t>年利率</a:t>
            </a:r>
            <a:r>
              <a:rPr b="1" lang="zh-TW" sz="2800" spc="-1" strike="noStrike" u="sng">
                <a:solidFill>
                  <a:srgbClr val="ffffff"/>
                </a:solidFill>
                <a:uFillTx/>
                <a:latin typeface="Times New Roman"/>
                <a:ea typeface="標楷體"/>
              </a:rPr>
              <a:t>4.2%</a:t>
            </a:r>
            <a:r>
              <a:rPr b="1" lang="zh-TW" sz="2800" spc="-1" strike="noStrike" u="sng">
                <a:solidFill>
                  <a:srgbClr val="ffffff"/>
                </a:solidFill>
                <a:uFillTx/>
                <a:latin typeface="Times New Roman"/>
                <a:ea typeface="標楷體"/>
              </a:rPr>
              <a:t>，月息</a:t>
            </a:r>
            <a:r>
              <a:rPr b="1" lang="zh-TW" sz="2800" spc="-1" strike="noStrike" u="sng">
                <a:solidFill>
                  <a:srgbClr val="ffffff"/>
                </a:solidFill>
                <a:uFillTx/>
                <a:latin typeface="Times New Roman"/>
                <a:ea typeface="標楷體"/>
              </a:rPr>
              <a:t>0.35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案放款辦法</a:t>
            </a:r>
            <a:br>
              <a:rPr sz="4000"/>
            </a:b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 助學優惠專案貸款</a:t>
            </a: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對象為升正式社員滿一年以上且按時存、還款之優良社員及其子女為限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申貸金額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高級中等學校以下（含公、私立幼稚班）：以新台幣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     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萬元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為限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科級大學院校以上（不含在職進修班）：以新台幣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    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萬元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為限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還款期限：還款期限不得超過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12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月（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）。惟社員若需再次申請本方按之放款，需償還前次貸款結餘後，始得申請 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於開學後一個月辦理，逾期則不予受理，申請時，請附上【學校註冊繳費通知單（通知聯）】正本申請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利率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4.2%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，月息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0.35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案放款辦法</a:t>
            </a:r>
            <a:br>
              <a:rPr sz="4000"/>
            </a:b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 貼心還低利率專案貸款</a:t>
            </a: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對象：升正式社員滿一年以上之優良社員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不含未年之社員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貸款額度及每期攤還本利之一定金額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『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10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萬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』，每期（月）固定攤還本利新台幣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3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仟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整。放款期限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3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『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20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萬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』，每期（月）固定攤還本利新台幣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6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仟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整。放款期限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3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『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30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萬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』，每期（月）固定攤還本利新台幣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9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仟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整。放款期限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3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『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50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萬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』，每期（月）固定攤還本利新台幣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9</a:t>
            </a:r>
            <a:r>
              <a:rPr b="1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仟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整。放款期限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5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利率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3.6%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，月息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0.3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案放款辦法</a:t>
            </a:r>
            <a:br>
              <a:rPr sz="4000"/>
            </a:b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 農業生產事業專案貸款</a:t>
            </a: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對象：擁有</a:t>
            </a:r>
            <a:r>
              <a:rPr b="0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地主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</a:t>
            </a:r>
            <a:r>
              <a:rPr b="0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佃農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身分的社員均屬之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種類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購置或維修農業機具之放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作為農地耕作或擴大經營模式之放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社員資格與應備文件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儲蓄成績良好且前次貸款未曾逾期之優良社員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足以證明個人實際從事農業生產或經營農場的文件或切結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切結書由本社統一規定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國民身分證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提出購買農業機具的證明、圖片與收據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提出保證人或不動產物擔保品。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股金、保證人股金及所提出的擔保品，其總額至少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超過放款總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申請本專案貸款者，當擔保品若非為申請人所有時，擔保品所有權人需當申請人之連帶保證人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額度：信用貸款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(7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)100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萬元；擔保貸款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(10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)300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萬元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‧</a:t>
            </a: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利率</a:t>
            </a: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5.2%</a:t>
            </a: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，月息</a:t>
            </a: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4.5%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案放款辦法</a:t>
            </a:r>
            <a:br>
              <a:rPr sz="4000"/>
            </a:b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 農業生產事業專案貸款</a:t>
            </a: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對象：擁有</a:t>
            </a:r>
            <a:r>
              <a:rPr b="0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地主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與</a:t>
            </a:r>
            <a:r>
              <a:rPr b="0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佃農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身分的社員均屬之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種類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購置或維修農業機具之放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作為農地耕作或擴大經營模式之放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社員資格與應備文件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儲蓄成績良好且前次貸款未曾逾期之優良社員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足以證明個人實際從事農業生產或經營農場的文件或切結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切結書由本社統一規定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國民身分證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提出購買農業機具的證明、圖片與收據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提出保證人或不動產物擔保品。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股金、保證人股金及所提出的擔保品，其總額至少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超過放款總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申請本專案貸款者，當擔保品若非為申請人所有時，擔保品所有權人需當申請人之連帶保證人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‧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額度：信用貸款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(7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)100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萬元；擔保貸款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(10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)300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萬元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‧</a:t>
            </a: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利率</a:t>
            </a: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5.2%</a:t>
            </a: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，月息</a:t>
            </a:r>
            <a:r>
              <a:rPr b="1" lang="zh-TW" sz="20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4.5%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ecff"/>
                </a:solidFill>
                <a:latin typeface="Times New Roman"/>
                <a:ea typeface="標楷體"/>
              </a:rPr>
              <a:t>花蓮縣鳳林儲蓄互助社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專案放款辦法</a:t>
            </a:r>
            <a:br>
              <a:rPr sz="4000"/>
            </a:b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 旅遊專案貸款</a:t>
            </a:r>
            <a:r>
              <a:rPr b="1" lang="zh-TW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〜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放款對象：所有社員都可以參加。其資格限制為：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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1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內無逾期貸款之情事，且均有每月按時儲蓄之紀錄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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股金結餘扣除既有之貸款結餘與本專案貸款之總合，其股金結餘仍須大於放款總額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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同一戶內至多可申請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3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單位，惟須符合前二項之規定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■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申請額度、利息及還款方式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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國內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1.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單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3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萬元整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2.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利率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3%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3.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最長可分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10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期∕個月攤還。提前攤還者免收違約金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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國外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1.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單位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5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萬元整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2.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利率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3%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3. 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最長可分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16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期∕個月攤還。提前攤還者免收違約金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標楷體"/>
              </a:rPr>
              <a:t>■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本專案放款之申請作業，同如本社股金內放款方式辦理。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6104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找到最有利的方式來貸款</a:t>
            </a:r>
            <a:br>
              <a:rPr sz="5400"/>
            </a:b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額度、還款日期、自主選擇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各項互助基金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(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互助保險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)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介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社成本支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社員自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常見問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Times New Roman"/>
                <a:ea typeface="標楷體"/>
              </a:rPr>
              <a:t>人壽儲蓄互助基金</a:t>
            </a:r>
            <a:r>
              <a:rPr b="0" lang="zh-TW" sz="4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LS)</a:t>
            </a:r>
            <a:br>
              <a:rPr sz="4400"/>
            </a:br>
            <a:r>
              <a:rPr b="0" lang="zh-TW" sz="4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社成本損益支付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「讓社員的股金存款產生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加倍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價值」，來鼓勵社員養成儲蓄的習慣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社員在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未滿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75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歲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前所存的股金，在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16</a:t>
            </a: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萬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額度內，不管活到歲死亡，都可以獲得理賠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(0-6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個月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5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6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歲以前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100%,60-65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歲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75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65-7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歲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50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70-75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歲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25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75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歲以後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0%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外說明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因病死亡前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6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個月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所存股金不予計算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社員非意外死亡前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2</a:t>
            </a:r>
            <a:r>
              <a:rPr b="0" lang="zh-TW" sz="28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年每月儲蓄股金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至多理賠限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3000</a:t>
            </a:r>
            <a:r>
              <a:rPr b="0" lang="zh-TW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元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(99.01.01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起實施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自殺：死亡前一年所存股金會被扣除不予計算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中途退社或退股時，其保障也會因此而受到影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Times New Roman"/>
                <a:ea typeface="標楷體"/>
              </a:rPr>
              <a:t>貸款安全互助基金</a:t>
            </a:r>
            <a:r>
              <a:rPr b="0" lang="zh-TW" sz="4400" spc="-1" strike="noStrike">
                <a:solidFill>
                  <a:srgbClr val="ccecff"/>
                </a:solidFill>
                <a:latin typeface="Times New Roman"/>
                <a:ea typeface="標楷體"/>
              </a:rPr>
              <a:t>(LP)</a:t>
            </a:r>
            <a:br>
              <a:rPr sz="4400"/>
            </a:br>
            <a:r>
              <a:rPr b="0" lang="zh-TW" sz="4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社成本損益支付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「讓社員的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貸款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債務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隨著其死亡而消失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，鼓勵社員有資金需要時，能在互助社貸款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本社目前的個人最高互助金額為</a:t>
            </a:r>
            <a:r>
              <a:rPr b="0" lang="zh-TW" sz="2400" spc="-1" strike="noStrike" u="sng">
                <a:solidFill>
                  <a:srgbClr val="ffffff"/>
                </a:solidFill>
                <a:uFillTx/>
                <a:latin typeface="Times New Roman"/>
                <a:ea typeface="標楷體"/>
              </a:rPr>
              <a:t>  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 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80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萬元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齡與給付理賠金額的關係：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16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歲以下社員最高給付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$20,000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以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70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歲生日為上限，超過者其貸款結餘無法獲得理賠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因病死亡：一年以後才會全額理賠。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(0-3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0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3-6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25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6-9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50%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9-12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75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意外死亡：不受上述規定限制，全額理賠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外說明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逾期貸款未還超過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18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個月者，不予理賠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自殺：</a:t>
            </a:r>
            <a:r>
              <a:rPr b="1" lang="zh-TW" sz="24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社員一年內自殺死亡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不予理賠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ff3300"/>
                </a:solidFill>
                <a:uFillTx/>
                <a:latin typeface="Arial"/>
                <a:ea typeface="標楷體"/>
              </a:rPr>
              <a:t>儲蓄互助社運動祈禱文</a:t>
            </a: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神啊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我願慷慨犧牲而不計代價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我願為人服務而不問酬勞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我願盡力工作而不怕勞苦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我願關心別人與人合作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我願一心惟求遵行祢的旨意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願祢接納我的心願，並賜我力量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為儲蓄互助社運動及服務人群而獻身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賜我們的儲蓄互助社健全發展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賜我國及全世界儲蓄互助社運動成功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ffff"/>
                </a:solidFill>
                <a:uFillTx/>
                <a:latin typeface="Times New Roman"/>
                <a:ea typeface="標楷體"/>
              </a:rPr>
              <a:t>社員自付的互助基金</a:t>
            </a:r>
            <a:r>
              <a:rPr b="0" lang="zh-TW" sz="4400" spc="-1" strike="noStrike" u="sng">
                <a:solidFill>
                  <a:srgbClr val="ffffff"/>
                </a:solidFill>
                <a:uFillTx/>
                <a:latin typeface="Times New Roman"/>
                <a:ea typeface="標楷體"/>
              </a:rPr>
              <a:t>(</a:t>
            </a:r>
            <a:r>
              <a:rPr b="0" lang="zh-TW" sz="4400" spc="-1" strike="noStrike" u="sng">
                <a:solidFill>
                  <a:srgbClr val="ffffff"/>
                </a:solidFill>
                <a:uFillTx/>
                <a:latin typeface="Times New Roman"/>
                <a:ea typeface="標楷體"/>
              </a:rPr>
              <a:t>互助保險</a:t>
            </a:r>
            <a:r>
              <a:rPr b="0" lang="zh-TW" sz="4400" spc="-1" strike="noStrike" u="sng">
                <a:solidFill>
                  <a:srgbClr val="ffffff"/>
                </a:solidFill>
                <a:uFillTx/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  <a:hlinkClick r:id="rId1"/>
              </a:rPr>
              <a:t>社員團體互助基金</a:t>
            </a:r>
            <a:r>
              <a:rPr b="0" lang="zh-TW" sz="32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  <a:hlinkClick r:id="rId2"/>
              </a:rPr>
              <a:t>(</a:t>
            </a:r>
            <a:r>
              <a:rPr b="0" lang="zh-TW" sz="32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  <a:hlinkClick r:id="rId3"/>
              </a:rPr>
              <a:t>俗稱團保</a:t>
            </a:r>
            <a:r>
              <a:rPr b="0" lang="zh-TW" sz="32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  <a:hlinkClick r:id="rId4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年調整互助費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A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98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，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B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173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，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C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288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，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427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，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E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73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  <a:hlinkClick r:id="rId5"/>
              </a:rPr>
              <a:t>社員防癌互助基金</a:t>
            </a:r>
            <a:r>
              <a:rPr b="0" lang="zh-TW" sz="32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  <a:hlinkClick r:id="rId6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cc"/>
                </a:solidFill>
                <a:uFillTx/>
                <a:latin typeface="Verdana"/>
                <a:ea typeface="標楷體"/>
                <a:hlinkClick r:id="rId7"/>
              </a:rPr>
              <a:t>微型保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Verdana"/>
                <a:ea typeface="標楷體"/>
              </a:rPr>
              <a:t>汽、機車保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互助基金常見的問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社員自付的保險費，自明年起依規定不再從社員股金扣除，而是要繳現金。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社員可利用領股息時間辦理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申請前，請務必先行聯絡專職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林慧玲小姐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需要攜帶的相關文件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鳳林儲蓄互助社協商機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協商時機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主動性：社員覺察自己可能無法依借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約定還款本金利息，主動與社聯絡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被動性：社員接到存證信函、支付命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後，到社請求協商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3300"/>
                </a:solidFill>
                <a:uFillTx/>
                <a:latin typeface="Times New Roman"/>
                <a:ea typeface="標楷體"/>
              </a:rPr>
              <a:t>協商效益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展延還款時限，繳付本金、利息壓力小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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避免自己淪入逾期放款社員名單，失去社員應當享有的權利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鳳林儲蓄互助社的挑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逾期貸款比率雖有減少，但還有進步的空間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「呆帳沖銷準備金」沖銷後之後續催收事宜，本社除了依法在社員大會公佈姓名外，請社員或是幹部多多關心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貸放比近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2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個月有減少，希望社員大家多多利用社的各項放款機制，辦理放款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感謝聆聽</a:t>
            </a:r>
            <a:br>
              <a:rPr sz="5400"/>
            </a:b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大家平安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Arial"/>
                <a:ea typeface="標楷體"/>
              </a:rPr>
              <a:t>【水庫原理】</a:t>
            </a:r>
            <a:br>
              <a:rPr sz="5400"/>
            </a:br>
            <a:br>
              <a:rPr sz="5400"/>
            </a:b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   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-- 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  <a:ea typeface="標楷體"/>
              </a:rPr>
              <a:t>儲蓄互助的功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419720" cy="3316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80880" y="46479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社員的股金，就像是來自不同的支流，匯集到集水區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集水區在一個點上，建立水庫，將水調度使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00"/>
                </a:solidFill>
                <a:latin typeface="Verdana"/>
                <a:ea typeface="標楷體"/>
              </a:rPr>
              <a:t>儲蓄互助社就是扮演水庫的角色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3962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儲蓄互助社將社員個別、群體、整體的需要，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水 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/ 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股金灌溉出去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zh-TW" sz="2800" spc="-1" strike="noStrike">
                <a:solidFill>
                  <a:srgbClr val="ff3300"/>
                </a:solidFill>
                <a:latin typeface="Verdana"/>
                <a:ea typeface="標楷體"/>
              </a:rPr>
              <a:t>讓儲蓄互助社成為大家的祝福</a:t>
            </a:r>
            <a:r>
              <a:rPr b="0" lang="zh-TW" sz="2800" spc="-1" strike="noStrike">
                <a:solidFill>
                  <a:srgbClr val="ffffff"/>
                </a:solidFill>
                <a:latin typeface="Verdan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105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ecff"/>
                </a:solidFill>
                <a:latin typeface="標楷體"/>
                <a:ea typeface="標楷體"/>
              </a:rPr>
              <a:t>所以 – 請大家共同來思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沒有社員，可以嗎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沒有社員儲蓄，存積股金，可以嗎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誰來協助互助社的經營管理，沒有可以嗎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沒有一定的放款程序，可以嗎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互助社沒有社區服務，可以嗎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Arial"/>
                <a:ea typeface="標楷體"/>
              </a:rPr>
              <a:t>原住民式的健康理財觀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王永慶先生的經典名言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「</a:t>
            </a:r>
            <a:r>
              <a:rPr b="1" lang="zh-TW" sz="32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賺來的錢，不是自己的；  存下來的錢，才是自己的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」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理財公式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A)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收入 – 支出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=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儲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B)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收入 – 儲蓄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= 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支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7,-87,-45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01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7,-87,-45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01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7,-87,-45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01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7,-87,-45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01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儲蓄互助社的本質 – </a:t>
            </a:r>
            <a:br>
              <a:rPr sz="4400"/>
            </a:b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敎育與服務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非為營利，非為救濟，乃是互助。</a:t>
            </a: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是合法的非營利社團法人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值得信任，可以聚財的地方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養成儲蓄的習慣，建立自己的財本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重視社員的理財教育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明智借款，按期還款，善用協商機制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重視互助服務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服務的類型包括多元的貸款方式，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LS/LP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互助基金，各項社員團體保險等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11-12-30T03:13:51Z</dcterms:modified>
  <cp:revision>1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